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28E-A0DD-44D6-BEA7-AE040006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F2A-0BDA-49B6-8E9E-C38D412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707-F4EF-4245-9F83-8429F91A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657-448C-4A92-B3D8-C7633A1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7B0-FD5D-4657-A69F-D1AFD59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27D-74C9-412F-8FAC-8142774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D75-3533-46A8-85FE-A394B8E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98E-3D22-4E64-BBFD-0B7D13B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ECB-D034-4C49-9745-7079811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84C-8D84-4EA9-B855-CBC2BA6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D04-F5AE-4AB6-B83F-75ED17E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A3A-3195-44CD-AC88-1DA39A9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F3E-5CAD-4957-A905-396D6C392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15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items for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Vipul’s slide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ain with 2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360" y="380880"/>
            <a:ext cx="168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9960" y="380880"/>
            <a:ext cx="309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Substance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8600" y="3808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914400"/>
            <a:ext cx="4724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5760" y="1447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onsum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3840" y="2057400"/>
            <a:ext cx="1978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7440" y="3809880"/>
            <a:ext cx="1104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start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840" y="30481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1920" y="19051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dos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5640" y="236232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6600" y="2362320"/>
            <a:ext cx="27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0920" y="9144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3680" y="2209680"/>
            <a:ext cx="59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704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88960" y="13716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out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29200" y="91440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914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360" y="12304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at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914400"/>
            <a:ext cx="2514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2280" y="35812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6800" y="6031080"/>
            <a:ext cx="78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0920" y="5029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712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040" y="6019920"/>
            <a:ext cx="69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168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340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3160" y="6031080"/>
            <a:ext cx="92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rt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6920" y="50292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384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8600" y="6019920"/>
            <a:ext cx="109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3/2005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840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914400"/>
            <a:ext cx="4572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2840" y="3429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3657600"/>
            <a:ext cx="10666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572000"/>
            <a:ext cx="1523880" cy="6858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3848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3747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627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qualifiers from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FillerOrder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“Vital Signs” class and make all its siblings subClassOf OWL: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hasData property to all the vital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item” properties and made them more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14T22:04:16Z</dcterms:modified>
  <cp:revision>85</cp:revision>
  <dc:subject/>
  <dc:title>Slide 1</dc:title>
</cp:coreProperties>
</file>